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5A6-1233-4411-A3F1-454EE589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03D-F244-47D9-80A0-FFBE33E0E4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B73-D4D2-491A-88E9-F05F0F90EC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CA5-0196-475A-8425-C39D9EBB21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FFAB-253B-4005-9DC8-D08FE49FDC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60F-F8BE-4791-BAE9-56507FB3A2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51AB-E657-47E5-A426-1A753866C0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242-D630-4FDA-96DC-F74DC42FD6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D4DF-D77E-4100-A65A-25F398E058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AECC-69A7-44C3-BA26-85C339849A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323-D537-4623-AD84-51EECF33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283-6072-4EA9-B1A7-38526CA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724-6EFA-4308-AFC2-A9201F6E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A0A-767D-4843-A37A-FAD78841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B5B-50EC-4A92-B4D7-F0F76139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C1C-2B36-48DE-91EC-EF81588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5B7F-5032-40B3-810C-14D47A0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532-1A4A-4466-9D08-5DBAF90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959-FA2B-430A-9692-73CB273B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95DB-EB2E-428B-880D-6CCD0537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B612-BAF9-47BE-94D8-09BA2B1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782-DB66-41E9-8DB4-5C72169E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EF46-6FC9-419D-A1DF-AE2DAC8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A61-D8FE-460F-9A7E-EC8D576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A6B1-2BC7-4B81-A23C-66D343D0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5BD4-2BE5-45AA-BBCD-06EEFA7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3BF4-20F9-4D30-B047-7EE25C70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89D-E41D-4A23-8085-50E7CDB3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0A7-1005-4BC0-BB1F-B4EA9C9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197-8872-40B4-924A-DF2FD6E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CC8-8850-4290-9B42-288AB96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EFE-8BF4-4C09-9879-525097A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34D-9F26-4280-AE75-5B1F0B7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605-45BC-43CC-8DB8-5862303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827-5F58-4CF5-9C68-84DA48107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308-989E-4A4B-8907-9CC0D1784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380880" y="380880"/>
            <a:ext cx="652464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2743200"/>
            <a:ext cx="510552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5014800" y="0"/>
            <a:ext cx="4129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4956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all leav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following questions…leave some space between 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o trees change col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ree pigments found in lea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 we typically see the non dominant pigment and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trees change color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c of shortening photoperiod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or weather is 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three leaf pig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tenoids and xanthophy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typically see the other non-dominant pigments and wh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is blockin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breaks down in fall and is not replaced… other pigments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igments are pres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r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248520" y="405288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inside chloropl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984400" cy="34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84472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tenoids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, orange, and brow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anthophylls – yellows    Carotenoids - o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b other wavelengths of light to assist 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use beta-carotene to help make vitamin A (good for v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666880" cy="23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969840" y="4648320"/>
            <a:ext cx="146844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6886440" y="0"/>
            <a:ext cx="22575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purple and blu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resent throughout the year as other pigments (only in autum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s the sugar breakdown in the leaf s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29200" y="416232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4243320"/>
            <a:ext cx="33526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fall prepa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 and sap move into the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tissue entering leave closes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200400" y="3281400"/>
            <a:ext cx="33526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28:34Z</dcterms:created>
  <dc:creator>David</dc:creator>
  <dc:description/>
  <dc:language>en-US</dc:language>
  <cp:lastModifiedBy>SASD</cp:lastModifiedBy>
  <dcterms:modified xsi:type="dcterms:W3CDTF">2009-10-05T18:15:40Z</dcterms:modified>
  <cp:revision>16</cp:revision>
  <dc:subject/>
  <dc:title>Slide 1</dc:title>
</cp:coreProperties>
</file>